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4.png" ContentType="image/png"/>
  <Override PartName="/ppt/media/image1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drumroll.wav" ContentType="audio/x-wav"/>
  <Override PartName="/ppt/media/applause.wav" ContentType="audio/x-wav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CFD-2CA8-4F7E-B8D9-39CF7546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E1F-C2E1-4BAB-9C51-0C113F94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2E26-0D02-4C15-A5C4-D95E2EB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633D2-4830-462B-ABAA-338AADC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DFA5-4356-421C-BB47-98B0E05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70871-16B7-4202-A39A-9552882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75F80-7477-44B4-B223-2548169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F0247-4DE7-45FD-B887-D52AE87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7754A-D77F-43EE-9776-E7871BA5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848ED-0C31-4B5B-B4D2-5A6296F0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8D260-494B-482D-8AC9-6241BDA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93320-DEC8-4A89-ADCC-CE01096C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392-1EF6-46C9-A664-FC2E8350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1C1F6-D809-4D40-B169-9FC0D47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95DA6-ABB4-4E42-8B38-0A1B3F06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A8887-1A93-44DC-BC19-33B31845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F10C7E-0CD7-427C-9672-B61C5A25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F5399-069B-4111-95CD-13BF781C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3D5ED-5E5B-4F40-803E-ECF4A3B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96C43-B603-4220-B22E-C55E3DA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A45CD0-390F-4E9D-A406-73C0BA4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384A6E-97B0-4CAC-B6EC-F858531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AC59A-1557-4878-99BC-D9BF5A41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49C-6830-4A18-8D7F-64E60844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C0CDC6-75C1-4859-81B8-CF99552B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B5D6E-1248-4D7A-B9F1-EA987A80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1797-EAF4-4A13-989C-3240321F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008D-E519-45E1-8DDC-4F88A07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06D96-C2F9-4B22-91AB-2C70C9D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AED41-D813-4C0A-A067-43FB2CC0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70B62-C346-4046-9B97-098A5D2F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6E52B-42DA-4006-B6E0-FD8BF90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312C4-D4AB-4878-97EB-ED9F0D9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C80D-4B77-4D6B-8776-FBC1CBF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1BB6-B68B-47C7-B1F3-1EFE568C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3C361-5CFB-4863-8F90-11A2DE2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76B0-A59F-40CF-B807-532B5FD5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74C85-1ED8-4681-806A-0D66A9D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4BDB3-C1F0-472E-8958-DB3166E7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2C482-C2C7-4A6F-A44F-64E6AD4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0F574-60D5-4F71-BFF6-0CBBF48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B16BA-15A9-4673-89F2-092FE81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7EF6E-B58C-4E83-BD22-2EEE287A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F94CC-EA59-499C-BCBC-AADA3E9E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96D8B-A70B-4FDC-8E57-4864656B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FD76-83F4-4C61-AD2B-3F73F8B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63390-0432-4513-B199-D024C033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7AD47-045F-4875-9D4B-063BA2B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C1ADB-4EF1-4710-ADE1-4B885F3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9FD3-880B-4F79-AF1A-20037AF5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B887B-1A62-4FA1-93C9-8B31F18A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72036-2A3C-4E2F-A0B6-C9F2431B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AEC05-13EE-4C54-A730-A2492A99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597FC-621A-4402-84A4-9EE8FDD8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B2D0F-8FE7-4619-A8A9-27AD45D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8255A-FB0F-415C-ADF8-9C5D552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42A8-10D1-4B7C-AAD6-AAFD800F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6163A-D176-40BF-8A89-09876B59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23ED6-63D4-4845-92A2-8BA94111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A053D-EF0F-4926-813F-CAD29D5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E02CB-3C3D-4C29-9626-2F1986B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A3716-70EA-47D2-8775-0C8C023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46E59-FDED-4707-9683-27EE8854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8F34D-C38C-46E6-9874-46C4DD46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260-F7FC-4449-855A-738C17F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158-6CD2-400A-9856-09C6D58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7480-81C9-474B-A43F-B94137B2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163-83B2-4D13-B086-F897050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EC5-C43A-4EC8-92F9-3376D78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EB6A-90F4-4155-81BB-52603CC1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DB8-5CCB-40F7-9CD3-3683A6D8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8157-16E0-4D93-B591-7FF0306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5DA7-B3D0-4CDA-A926-2EEF46C9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31B0-F4F3-4D70-86FA-D3F16AF6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944A-BE73-4E06-9184-907B1ABA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6AC9-ED2C-4079-9B45-A4F5A3FC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3F53-A010-431A-AB59-6BD6BE49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0DFC-E320-4A3A-A9DD-9F041F4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C681-04E2-4F72-A2D2-2AC2598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578-8670-490A-B728-2BE35E4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8749-86B0-4B05-BC09-B996CF56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396C-C773-430A-8912-CB2CF23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57AD-7CA6-40E5-A384-FAE64EE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D6F6-25E9-4488-BA32-F5AF9FA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E5C5-E001-46D1-BB1D-621222AE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5F73-2352-4670-B801-84DBBFA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7492-B880-4B73-B823-B3AF9452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AE918-F6AB-48B9-BAC9-4DEE3E4E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4CCB-0392-4BBB-A5CB-B94C29E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27D7-E18A-4162-BAC4-EFD6DBD7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716-2E73-41B3-96B3-33FF7D3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42B5-B80A-4BE0-8C45-C8FA779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F9D7-D63B-4D49-922A-B7E5D1E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3F8B-EDD7-430F-8D8E-FDBCE389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9715-0D0B-47DF-B840-E258CAE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939F-DABB-425C-917A-07849B0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96FF-43A9-44DC-B3E7-E9E38E1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888C-A183-4B95-AC92-66752FD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248C-0E62-4791-820D-5860B586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E51F-C126-4D57-8EFB-0A97DF18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82C1-E89C-44D1-9AC2-6ACE44BB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69E-223A-4241-8E8F-A249782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E98F-D6D2-4D8A-BD2D-C11E5B00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D8F6-9C0D-4C81-A3EC-497F2E73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F0A0-0EF7-4708-834A-AA382445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BB27-EF3E-4607-92D6-6666A189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E700-7EE2-4ACD-B709-155FB217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F9840-8341-4928-BD9F-5C9033F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C7BE-66DF-4C9E-8358-E907B1F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701E-A2D4-4018-AF5F-CC2E8C0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2D81-BEA2-404D-9906-F7A9F96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B1F8-9650-49FC-8E2E-A541BD2F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DF3-DEC2-4F62-92B0-96DBC340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789A-85DC-4A05-9E1D-DC24D66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B2EF-819E-4E3B-A246-9CEE4FE9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7137-0F6C-4014-8B60-2F0F7848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08168-2083-4F5A-9BB1-DE0ED160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B2AEF-E896-4E14-969A-BCBA3762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D455-64AE-45D2-BC0D-604CFC7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4DDB-D022-4C79-85D8-ECD5EFCE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FD3E-75DA-49E4-9FC8-D88BFDD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2C9D-F6F7-4A57-9772-C11F88E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F11A-3619-478F-BB49-BC5E3EA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760-A3A4-41AB-88E6-CF5319D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94B88-E1ED-4E43-9AA2-54EADCA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2EF7-C93D-4CC4-B2DD-8918B227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D708-F7B7-4F13-809B-32DAB62C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2BE3-4A3E-470C-A988-E4A89279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E44AA-E1B1-4B8C-A06B-6B2CF82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BB49-A885-48A2-9D8C-A28F0AFB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3BC25-A82C-42B7-9577-9297CC4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1E99F-E992-4C6D-B9B2-F1E0A10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B35A-D0DA-4CBE-96D2-EF29811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053A-B5D8-4628-813E-9C4C2337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309-2E7C-47EA-9D1C-68DB52E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36F6-9830-4FC1-8603-897FB85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6FD8-D054-46C1-A56A-29E07BF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45C2-1A58-46FD-BA9B-D4E6AF6A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ADBE-AE44-47BC-89E6-B2C68DD9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28EC-604F-47DF-808A-7D2B523B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1B32-2608-40E9-9703-81F4EE5F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5AA0-4C0D-4584-A9A9-CCB1340F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3A996-A3E3-4BFF-A43B-E07C7155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E58F-79AF-4B77-8AC5-A1241655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D0FE-0AAF-4318-A122-143B7F9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B90-A5CC-45CE-870E-6AC8512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2B7AC-6211-4575-8233-97B3E578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E086-31C4-4CBA-9E29-97CA202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6FAAE-32AB-4296-97ED-6A1BD23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65A15-84F9-45B9-A295-D20E3A9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FA38-6B48-4646-AB05-4DD2C0E7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70A4-D081-4EDE-A7E5-F4D9784A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03A17-51F4-4F92-845A-5EE331FE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540F3-C723-456F-B09F-BE642F64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83BAD-4066-4EB2-BAA3-C36F7F0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ED3F4-4A79-485F-AC8A-1993BD46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259D-6D74-4E8F-A636-F7C8048106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47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9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51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5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8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832-08FA-4C81-A8FE-5CA1EF99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0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83B-CF4A-463D-8FEE-71EF952A3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FB4-0374-4C80-861E-E6517F8DB3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0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D763-7083-4F1D-A04A-51F563EA3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CD60-ABD5-4738-8504-190DD995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86B-D2E8-497D-84F3-1700FCD9FE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8EA-AA48-46C1-A793-48432CC8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36E5-43F4-4699-B037-B479674C48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7F7B-81B2-4E6F-898D-1322E95918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41C-B441-45DB-BF8A-967B8C21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1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2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8636-4D52-4669-8915-03347BFA66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9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8F0-FCA2-481A-B5BE-5226E78B0A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 Land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s Always Tougher In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By, Alexander Cox &amp; Anthony 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3" name="Picture 5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7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s of Russia are Steppe, Humid continental, Subarctic and Tund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nual precipitation is 2.9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high temperature of Russia is 98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low temperature is -4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nual Snowf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160 to 200 days of snow ann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5" descr="3D_Snow_Dance-29769"/>
          <p:cNvPicPr/>
          <p:nvPr/>
        </p:nvPicPr>
        <p:blipFill>
          <a:blip r:embed="rId2"/>
          <a:stretch/>
        </p:blipFill>
        <p:spPr>
          <a:xfrm>
            <a:off x="457200" y="2211480"/>
            <a:ext cx="838188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ga large evergreen forests that are in Siberia. Mostly found in humid subtropic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frost not even hardy evergreens can grow there. Permanently  frozen layers of soil. Covers 40%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: Anthony Li &amp; Alexander C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By: Anthony Li &amp; Alex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: Problems and Solu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d Climate: Very cold clim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s rivers to freeze and permafrost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ng Of Fire: a large ring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canoes on the Kamchatka  Penins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frost : a frost that forms 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nter months and sta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nently till Summer preven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chitecture and m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e Break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ic architecture (piling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87" name="Picture 6" descr="http://ts3.mm.bing.net/images/thumbnail.aspx?q=333383410654&amp;id=29c8f3b948c2b7254918f2c4622045b1&amp;index=ch1"/>
          <p:cNvPicPr/>
          <p:nvPr/>
        </p:nvPicPr>
        <p:blipFill>
          <a:blip r:embed="rId1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251000" y="3909960"/>
            <a:ext cx="664200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Landforms: Mountains, Plateaus &amp; Plain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us Mountains: The mountain range separating Russia and South East Asia. Mt. Elbrus: 564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MS910219680[1].wav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6" name="MS910220000[1].wav" descr=""/>
          <p:cNvPicPr/>
          <p:nvPr/>
        </p:nvPicPr>
        <p:blipFill>
          <a:blip r:embed="rId2"/>
          <a:stretch/>
        </p:blipFill>
        <p:spPr>
          <a:xfrm>
            <a:off x="8305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3615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3615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21046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and Forms: Mountains, Plateaus &amp; Plains Continu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Siberian Plateau: a huge plateau in the center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w other mountain ranges in Russia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Forms: Bodies of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olyma River             Lake Baik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nisey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g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tysh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ur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al Riv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MS910220019[1]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8" descr="russian-river"/>
          <p:cNvPicPr/>
          <p:nvPr/>
        </p:nvPicPr>
        <p:blipFill>
          <a:blip r:embed="rId3"/>
          <a:stretch/>
        </p:blipFill>
        <p:spPr>
          <a:xfrm>
            <a:off x="3429000" y="228600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0" descr="1"/>
          <p:cNvPicPr/>
          <p:nvPr/>
        </p:nvPicPr>
        <p:blipFill>
          <a:blip r:embed="rId4"/>
          <a:stretch/>
        </p:blipFill>
        <p:spPr>
          <a:xfrm>
            <a:off x="6019920" y="2286000"/>
            <a:ext cx="29559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1309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forms &amp; Penins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’s largest peninsula is the Kamchat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many landforms including the Ural mountains and the Siberian 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dissolve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5" descr="Temperature_avg_10_en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Alex</cp:lastModifiedBy>
  <dcterms:modified xsi:type="dcterms:W3CDTF">2010-12-20T20:48:23Z</dcterms:modified>
  <cp:revision>15</cp:revision>
  <dc:subject/>
  <dc:title>The Land is Always Tougher In Russia</dc:title>
</cp:coreProperties>
</file>